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gif" ContentType="image/gif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48298-ED2D-4ADB-B68C-18A240A02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FFEDE-9869-4B3D-8A6D-51DFD86A5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E99BF-5B26-4D15-BE21-185D5D430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302F0-5C1A-48E8-AD2F-054DF1E5F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7C86B-271D-4041-B5C4-063C55B87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0FA75-8741-4797-B43C-77E1BB9C1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A7692-EAA1-4D66-BF74-4DC78E05D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03590-3CDC-4E57-9C30-4C54437CC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6D4E2-525C-4B7E-961C-DF1253C4D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862A2-4AD2-4237-9BBD-2A428BB68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90FF7-42CB-4005-B177-866AE898B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88B5E-54FA-49E3-8F49-FB4A79B0A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EA969-0702-40FF-9C3F-B97E4E4E9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FD0E6-65B1-46F3-A8DE-DEA243FC0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1BC22-FA5C-458D-BE94-929F36FE0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B6A8A-485C-47F8-AD44-91C8A2926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F6761-DBDB-4C12-B4FD-418734723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23263-1FB1-4670-B0C5-B5C4ABE2B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BB505-525E-48D7-B223-690BC6078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7EF39-2720-4E5E-BE67-7CDE2F0C8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3A859-8155-4B9C-ABC9-619BE9816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486C5-43CE-4604-A65C-6F145402A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2BFBC-65BC-44C0-838D-0FC8C41E3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6D7F0-EF83-4602-B548-00820AE01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9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Freeform 8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9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10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11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17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18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19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20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21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Freeform 22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Freeform 23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Rectangle 25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27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28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29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30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Rectangle 34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35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Freeform 36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Freeform 37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Freeform 38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Freeform 39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Freeform 40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Freeform 41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Freeform 42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Freeform 43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Rectangle 44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F5407-0DEE-4187-A253-CC8BCC1CF2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Group 50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Freeform 4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Freeform 5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6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7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1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2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3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4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15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Freeform 16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Freeform 17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Rectangle 18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Freeform 20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Freeform 21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Freeform 22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Freeform 23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Rectangle 27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Freeform 28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Freeform 29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Freeform 30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Freeform 31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Freeform 32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Freeform 33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Freeform 34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Freeform 35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Freeform 36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Rectangle 37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Rectangle 45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Rectangle 46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99" name="Picture 43" descr="D:\FRONTPAGE THEMES\BLITZ\BTZBUL1A.GIF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0C913-A68C-4B05-9B47-CB2AC1111D3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6"/>
          <p:cNvSpPr/>
          <p:nvPr/>
        </p:nvSpPr>
        <p:spPr>
          <a:xfrm>
            <a:off x="838080" y="228600"/>
            <a:ext cx="72392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ommodore 64</a:t>
            </a:r>
            <a:br>
              <a:rPr sz="4400"/>
            </a:b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Telnet BBS Server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1295280" y="5181480"/>
            <a:ext cx="7010640" cy="10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if Bloomquist – Toronto, Canad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SWRAP Expo – Lombard, IL, USA    October 11, 200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43" name="Object 8"/>
          <p:cNvGraphicFramePr/>
          <p:nvPr/>
        </p:nvGraphicFramePr>
        <p:xfrm>
          <a:off x="2590920" y="1981080"/>
          <a:ext cx="3429000" cy="322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981080"/>
                    <a:ext cx="3429000" cy="322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5"/>
          <p:cNvSpPr/>
          <p:nvPr/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eneral infor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wnload server application+sourc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me.ica.net/~leifb/bbs/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BS Lists, hardware plans, etc.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ww.petscii.co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For More Information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33520" y="2438280"/>
            <a:ext cx="7772400" cy="24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Rectangle 4"/>
          <p:cNvSpPr/>
          <p:nvPr/>
        </p:nvSpPr>
        <p:spPr>
          <a:xfrm>
            <a:off x="762120" y="5561640"/>
            <a:ext cx="7772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Thank you!!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Overview and Goal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modore 64 BBS that anyone on the Internet can “Telnet” t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 long distance charg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 need for a second phone 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 special software on C64 sid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existing BBS progra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28"/>
          <p:cNvSpPr/>
          <p:nvPr/>
        </p:nvSpPr>
        <p:spPr>
          <a:xfrm>
            <a:off x="4343400" y="3048120"/>
            <a:ext cx="1600200" cy="1218960"/>
          </a:xfrm>
          <a:prstGeom prst="rect">
            <a:avLst/>
          </a:prstGeom>
          <a:solidFill>
            <a:srgbClr val="2663a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Windows PC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Rectangle 30"/>
          <p:cNvSpPr/>
          <p:nvPr/>
        </p:nvSpPr>
        <p:spPr>
          <a:xfrm>
            <a:off x="4191120" y="3276720"/>
            <a:ext cx="1981080" cy="1066680"/>
          </a:xfrm>
          <a:prstGeom prst="rect">
            <a:avLst/>
          </a:prstGeom>
          <a:noFill/>
          <a:ln w="572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Rectangle 25"/>
          <p:cNvSpPr/>
          <p:nvPr/>
        </p:nvSpPr>
        <p:spPr>
          <a:xfrm>
            <a:off x="380880" y="3505320"/>
            <a:ext cx="762120" cy="6858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elne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lien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Oval 20"/>
          <p:cNvSpPr/>
          <p:nvPr/>
        </p:nvSpPr>
        <p:spPr>
          <a:xfrm flipV="1">
            <a:off x="1143000" y="3429000"/>
            <a:ext cx="1447920" cy="838080"/>
          </a:xfrm>
          <a:prstGeom prst="ellipse">
            <a:avLst/>
          </a:prstGeom>
          <a:solidFill>
            <a:srgbClr val="9ce15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nterne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Rectangle 27"/>
          <p:cNvSpPr/>
          <p:nvPr/>
        </p:nvSpPr>
        <p:spPr>
          <a:xfrm>
            <a:off x="2590920" y="3581280"/>
            <a:ext cx="609480" cy="53352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DS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Rout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Rectangle 34"/>
          <p:cNvSpPr/>
          <p:nvPr/>
        </p:nvSpPr>
        <p:spPr>
          <a:xfrm>
            <a:off x="3200400" y="3733920"/>
            <a:ext cx="1143000" cy="228600"/>
          </a:xfrm>
          <a:prstGeom prst="rect">
            <a:avLst/>
          </a:prstGeom>
          <a:solidFill>
            <a:srgbClr val="9ce15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10BaseT Ethernet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Block Diagram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4" name="Rectangle 24"/>
          <p:cNvSpPr/>
          <p:nvPr/>
        </p:nvSpPr>
        <p:spPr>
          <a:xfrm>
            <a:off x="4343400" y="3505320"/>
            <a:ext cx="457200" cy="7617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Telne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erv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TCP/IP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Port 23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AutoShape 11"/>
          <p:cNvSpPr/>
          <p:nvPr/>
        </p:nvSpPr>
        <p:spPr>
          <a:xfrm>
            <a:off x="4800600" y="3657600"/>
            <a:ext cx="685800" cy="380880"/>
          </a:xfrm>
          <a:prstGeom prst="leftRightArrow">
            <a:avLst>
              <a:gd name="adj1" fmla="val 50000"/>
              <a:gd name="adj2" fmla="val 3584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Rectangle 23"/>
          <p:cNvSpPr/>
          <p:nvPr/>
        </p:nvSpPr>
        <p:spPr>
          <a:xfrm>
            <a:off x="5486400" y="3581280"/>
            <a:ext cx="457200" cy="533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Por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Rectangle 33"/>
          <p:cNvSpPr/>
          <p:nvPr/>
        </p:nvSpPr>
        <p:spPr>
          <a:xfrm>
            <a:off x="5943600" y="3733920"/>
            <a:ext cx="1447920" cy="228600"/>
          </a:xfrm>
          <a:prstGeom prst="rect">
            <a:avLst/>
          </a:prstGeom>
          <a:solidFill>
            <a:srgbClr val="9ce15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Null Modem Cable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8" name="Group 32"/>
          <p:cNvGrpSpPr/>
          <p:nvPr/>
        </p:nvGrpSpPr>
        <p:grpSpPr>
          <a:xfrm>
            <a:off x="7391520" y="3581280"/>
            <a:ext cx="1371600" cy="1219320"/>
            <a:chOff x="7391520" y="3581280"/>
            <a:chExt cx="1371600" cy="1219320"/>
          </a:xfrm>
        </p:grpSpPr>
        <p:sp>
          <p:nvSpPr>
            <p:cNvPr id="159" name="Rectangle 21"/>
            <p:cNvSpPr/>
            <p:nvPr/>
          </p:nvSpPr>
          <p:spPr>
            <a:xfrm>
              <a:off x="7391520" y="4114800"/>
              <a:ext cx="1371600" cy="68580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Commodore 64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Rectangle 22"/>
            <p:cNvSpPr/>
            <p:nvPr/>
          </p:nvSpPr>
          <p:spPr>
            <a:xfrm>
              <a:off x="7391520" y="3581280"/>
              <a:ext cx="457200" cy="533520"/>
            </a:xfrm>
            <a:prstGeom prst="rect">
              <a:avLst/>
            </a:prstGeom>
            <a:solidFill>
              <a:srgbClr val="66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VIC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1011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1" name="Text Box 35"/>
          <p:cNvSpPr/>
          <p:nvPr/>
        </p:nvSpPr>
        <p:spPr>
          <a:xfrm>
            <a:off x="1909080" y="2133720"/>
            <a:ext cx="284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Telnet BBS Server Progra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Line 36"/>
          <p:cNvSpPr/>
          <p:nvPr/>
        </p:nvSpPr>
        <p:spPr>
          <a:xfrm>
            <a:off x="3352680" y="2438280"/>
            <a:ext cx="762120" cy="8384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Server Software…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495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ritten in Visual Basic 6.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insock” Object for TCP/IP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SComm Object for COM Por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uns as background task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ssentially a “software router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5" name="Picture 4" descr=""/>
          <p:cNvPicPr/>
          <p:nvPr/>
        </p:nvPicPr>
        <p:blipFill>
          <a:blip r:embed="rId4"/>
          <a:stretch/>
        </p:blipFill>
        <p:spPr>
          <a:xfrm>
            <a:off x="4952880" y="1600200"/>
            <a:ext cx="397692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Server Software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04560" y="137160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stens for connections on TCP/IP Port 23 (Telne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1160" indent="-28116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n connection detected, “Rings” the B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09120" indent="-2343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etends to be a mod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1160" indent="-28116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ansparently forwards data between Telnet server and COM Port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1160" indent="-28116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angs Up” if Telnet Client disconne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1160" indent="-28116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onnects Telnet Client if BBS Hangs 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09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Test System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38080" y="1447920"/>
            <a:ext cx="8839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BBS 3.3 by Ed Parry (1987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tic IP:   209.151.141.59    Port 23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    c64bbs.no-ip.or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line since April 10, 20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Surprise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76212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BBS isn’t Y2K Compli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?ILLEGAL QUANTITY ERROR IN 31527”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XModem protocol upload/download works if “calling” from a real C64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ver 700 callers to 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&gt;250 unique callers from all over the worl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Next Step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76212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60640" indent="-2606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altime character translation (complet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564480" indent="-217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CII &lt;-&gt; PETSCI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64480" indent="-217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ckspa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64480" indent="-217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64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0640" indent="-2606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sts with more BBS program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60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60640" indent="-2606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ayes Modem emul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60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60640" indent="-2606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apt for gaming?  (Modem War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564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0640" indent="-2606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dicated hardwar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60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Acknowledgement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eff Ledger (testing, suggestion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o Zimmers (BBS program archiv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thony Beckett (discussion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ili Bloomquist (support, patience :-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03T18:37:01Z</dcterms:created>
  <dc:creator>Leif Bloomquist</dc:creator>
  <dc:description/>
  <dc:language>en-US</dc:language>
  <cp:lastModifiedBy>Leif</cp:lastModifiedBy>
  <dcterms:modified xsi:type="dcterms:W3CDTF">2012-11-05T05:16:49Z</dcterms:modified>
  <cp:revision>111</cp:revision>
  <dc:subject/>
  <dc:title>Commodore 64 Telnet BBS Server</dc:title>
</cp:coreProperties>
</file>